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487C-3E44-4D53-87AC-BF0FA18249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F38F-9376-40C4-94D9-864BEDBB25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EB3B-210F-4FD5-898C-10774D01EA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9D79-5DA5-417A-92F3-FF0E7C9CF3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0B96-6D54-484F-8BE4-B5A91C2C38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E364-CE2A-4762-86F6-E256E0E94D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23D2-929A-445B-812B-CCBE884E33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6B18-A9F6-4177-AE68-4B5B0C8460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868A-1AF1-475F-AF5E-B275D58EC5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E044-DFB6-4E2F-9D6B-8BAB9AB6E4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DF42-8F1B-417F-8758-8DF7F56C27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C903-F9EF-4E5D-98F0-F44CEAE7AF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CCF0-23CA-42B3-86C1-04ED61F32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A7D7-1226-42EF-8175-0A22DB745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9936-859A-43E6-BC6C-9234B8731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C6AF-B76C-4222-9C61-CF44BA7E1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A0BDD-BA0D-4AE7-A091-20D7A9244C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4579D-D973-4D37-9EAD-1BEAC1AC6F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68521-6680-4675-8D84-54F5DCC281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CF474-D781-4145-9B2A-9C7DD197EE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9D378-6A2E-468C-95BF-40C240B465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0D2A0-9300-4B11-A25D-99AA78783E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87CF-6209-490C-A1EE-C046724694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12B8-05FD-4580-A268-E15ABBC5B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67210-6E6E-43BC-8D0B-852B531E09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34A76-C07D-4BCE-9654-888E2682F1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E0A3F-12D5-4B88-BACF-935905E0E9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3D41E-0F96-48A1-ADAE-B2924666B0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3285C-73F9-47F4-B220-38C16927F5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80D2E-A5A4-4235-AB48-A586D8EF3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EA064-061E-4622-8808-126B7A6C5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B477-B1F5-41B8-912C-9DBBE7D15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3835-C18D-4012-BC3A-1D7E17931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B977-74DD-4A53-ABC4-43AAABC18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D474-878D-4ECF-9084-F236FFA23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843F-FDA2-4662-930C-AE8501F6E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A24E-5940-4031-995E-2017411F7A99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A0D4-D0BC-4376-96B6-E6BF29F93406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8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8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8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8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8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Why are certain farm products produced in particular areas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45A1-9B79-4211-864A-09AD852CA3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People – google earth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176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red is dense population and light green is nearly as dense, going to royal blue and pink is definitely thin on the ground!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an you think of any reasons why a particular place in a particular colour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rcRect l="31740" t="9178" r="21746" b="0"/>
          <a:stretch/>
        </p:blipFill>
        <p:spPr>
          <a:xfrm>
            <a:off x="4660920" y="981000"/>
            <a:ext cx="4160880" cy="587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6E18-67A7-4645-8B83-93F0825636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Farming and People – google earth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4176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s there any kind of farming that you would expect to take place near centres of population? Why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that don’t need to be near centres of population  - in the pink bits? Why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rcRect l="31740" t="9178" r="21746" b="0"/>
          <a:stretch/>
        </p:blipFill>
        <p:spPr>
          <a:xfrm>
            <a:off x="4660920" y="981000"/>
            <a:ext cx="4160880" cy="587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3CF0C-89B6-4F8A-A2A7-A29F7A75C8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Question is ….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5689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y is that type of farming growth where it is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s it to do with the landscap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s it to do with the temperatur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r is it to do with the rainfall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r is it to do with amount of people living nearby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r is it a combination of all of them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6300720" y="333360"/>
            <a:ext cx="2111400" cy="26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6659640" y="3500280"/>
          <a:ext cx="1647720" cy="224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59640" y="3500280"/>
                    <a:ext cx="1647720" cy="22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F5F6-3477-4BB9-BEEF-907D6A605C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oing it step by ste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6697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at the dark green area – they are sheep and beef cattl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o back to slide 6 – the climate graph. Also check out the WS – that has split that graph into 3 – one for rainfall – one for winter temps and one for summer temp – anything similar about the climate for all green areas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relief map on slide 7? Anything special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population density – anything interesting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6708600" y="333360"/>
            <a:ext cx="2111400" cy="26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7316640" y="3500280"/>
          <a:ext cx="1648080" cy="224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16640" y="3500280"/>
                    <a:ext cx="1648080" cy="22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F763-8ABD-46E8-A620-C5F1ED0327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oing it step by ste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6697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at the yellow area – that is arabl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o back to slide 6 – the climate graph. – what can you tell me about that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relief map on slide 7? Anything special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population density – anything interesting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6708600" y="333360"/>
            <a:ext cx="2111400" cy="26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7316640" y="3500280"/>
          <a:ext cx="1648080" cy="224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16640" y="3500280"/>
                    <a:ext cx="1648080" cy="22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53F9-446B-4008-B344-2170F8AD1C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oing it step by ste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6697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at the light green areas – that is dairy cattle – what are they for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o back to slide 6 – the climate graph. – what can you tell me about that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relief map on slide 7? Anything special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population density – anything interesting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6708600" y="333360"/>
            <a:ext cx="2111400" cy="26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7316640" y="3500280"/>
          <a:ext cx="1648080" cy="224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16640" y="3500280"/>
                    <a:ext cx="1648080" cy="22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F1A1-0760-44F7-9609-DEBB0E9B9F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oing it step by ste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6697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at the brown – that is mixed farming – what is that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o back to slide 6 – the climate graph. – what can you tell me about that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relief map on slide 7? Anything special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population density – anything interesting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6708600" y="333360"/>
            <a:ext cx="2111400" cy="26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7316640" y="3500280"/>
          <a:ext cx="1648080" cy="224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16640" y="3500280"/>
                    <a:ext cx="1648080" cy="22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D3D3-5EFC-4194-8BD6-14536C4D67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oing it step by ste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6697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at the pink – that is market gardening – what does that produc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o back to slide 6 – the climate graph. – what can you tell me about that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relief map on slide 7? Anything special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population density – anything interesting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6708600" y="333360"/>
            <a:ext cx="2111400" cy="26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7316640" y="3500280"/>
          <a:ext cx="1648080" cy="224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16640" y="3500280"/>
                    <a:ext cx="1648080" cy="22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2D8F-A358-48B6-A417-322113D314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rcRect l="0" t="0" r="51799" b="75336"/>
          <a:stretch/>
        </p:blipFill>
        <p:spPr>
          <a:xfrm>
            <a:off x="5292720" y="1711440"/>
            <a:ext cx="3354480" cy="2581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rcRect l="0" t="13731" r="0" b="4370"/>
          <a:stretch/>
        </p:blipFill>
        <p:spPr>
          <a:xfrm>
            <a:off x="252360" y="0"/>
            <a:ext cx="4434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6F56-2636-4565-B1B9-BD72130E53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Homework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5473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You will have this map and a link so you can look in more detai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You are told something about the people who are buying the 4 farm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You have to decide what they should produce and explain why!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021360" y="981000"/>
            <a:ext cx="290520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E008D-D55E-457D-915E-38E0EB78DE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 know that ….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..many of you guys do not come from the UK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ut the climate is quite different from area to another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d the landscape is variable too – some is flat and some is quite hilly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r these reasons, what is produced on farms varies quite a lot for such a small place – which makes a good place to look at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6780-5AF1-4AA5-978C-AD8815A78B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What is produced on farms in the UK</a:t>
            </a:r>
            <a:endParaRPr b="0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2433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is what is produced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ost often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in these area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rcRect l="0" t="0" r="7792" b="0"/>
          <a:stretch/>
        </p:blipFill>
        <p:spPr>
          <a:xfrm>
            <a:off x="4427640" y="1268280"/>
            <a:ext cx="3456000" cy="504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1231920" y="2781360"/>
          <a:ext cx="2333520" cy="354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1920" y="2781360"/>
                    <a:ext cx="233352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3069-03F7-4361-867A-451193213A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0" t="0" r="51799" b="75336"/>
          <a:stretch/>
        </p:blipFill>
        <p:spPr>
          <a:xfrm>
            <a:off x="5292720" y="1711440"/>
            <a:ext cx="3354480" cy="2581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rcRect l="0" t="0" r="0" b="4370"/>
          <a:stretch/>
        </p:blipFill>
        <p:spPr>
          <a:xfrm>
            <a:off x="1417680" y="0"/>
            <a:ext cx="3781440" cy="6831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is is just to show you it not really as clear cut as the other map implie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820F-2EA0-4F13-93CE-6BE0D0E6C5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We are now going to work out what we think each types of farm needs</a:t>
            </a:r>
            <a:endParaRPr b="0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2433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is what is produced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ost often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in these area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rcRect l="0" t="0" r="7792" b="0"/>
          <a:stretch/>
        </p:blipFill>
        <p:spPr>
          <a:xfrm>
            <a:off x="4427640" y="1268280"/>
            <a:ext cx="3456000" cy="504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1231920" y="2781360"/>
          <a:ext cx="2333520" cy="354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1920" y="2781360"/>
                    <a:ext cx="233352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062A-B559-4ED5-9150-472F98F343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42433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76720" y="333360"/>
            <a:ext cx="208764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old winters (&lt;5</a:t>
            </a:r>
            <a:r>
              <a:rPr b="0" lang="en-US" sz="28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) and cool summers and drie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old winters and warm summers and drier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260280"/>
            <a:ext cx="266364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Mild winters (&gt;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) and cool summers (&lt;1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) &amp; wett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Mild winters and warm summers (&gt;1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) and wett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2130840"/>
            <a:ext cx="2446200" cy="914040"/>
          </a:xfrm>
          <a:prstGeom prst="roundRect">
            <a:avLst>
              <a:gd name="adj" fmla="val 16667"/>
            </a:avLst>
          </a:prstGeom>
          <a:solidFill>
            <a:srgbClr val="d7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f &gt;800 mm it is we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3067920"/>
            <a:ext cx="2487600" cy="1319400"/>
          </a:xfrm>
          <a:prstGeom prst="roundRect">
            <a:avLst>
              <a:gd name="adj" fmla="val 16667"/>
            </a:avLst>
          </a:prstGeom>
          <a:solidFill>
            <a:srgbClr val="d7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Blue line is 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 Jan line, E is cold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0"/>
          <a:stretch/>
        </p:blipFill>
        <p:spPr>
          <a:xfrm>
            <a:off x="3009960" y="163440"/>
            <a:ext cx="3795480" cy="5713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443640" y="2468520"/>
            <a:ext cx="2468520" cy="1724760"/>
          </a:xfrm>
          <a:prstGeom prst="roundRect">
            <a:avLst>
              <a:gd name="adj" fmla="val 16667"/>
            </a:avLst>
          </a:prstGeom>
          <a:solidFill>
            <a:srgbClr val="d7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red line is the 1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verage July temp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7B986-BFC1-4837-A612-6ECC704D9D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is is called a relief ma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2433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ut before we look at the relief or physical map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et’s just check you know where places are!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788000" y="765000"/>
            <a:ext cx="3666960" cy="568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D75A-1466-4BE4-A2D1-0E3ABB591A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788000" y="1123920"/>
            <a:ext cx="3203640" cy="49690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37000" y="102960"/>
            <a:ext cx="5356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highest bit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691920"/>
            <a:ext cx="253548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ambrian Mountain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Exmoo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Dartmoo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Pennine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cottish Highland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outhern Upland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Lake Distric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4788000" y="4060080"/>
            <a:ext cx="431640" cy="652680"/>
          </a:xfrm>
          <a:prstGeom prst="wedgeEllipseCallout">
            <a:avLst>
              <a:gd name="adj1" fmla="val 258083"/>
              <a:gd name="adj2" fmla="val 7116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93080" y="2404440"/>
            <a:ext cx="504720" cy="652680"/>
          </a:xfrm>
          <a:prstGeom prst="wedgeEllipseCallout">
            <a:avLst>
              <a:gd name="adj1" fmla="val -237666"/>
              <a:gd name="adj2" fmla="val 7805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451640" y="3268080"/>
            <a:ext cx="432000" cy="652680"/>
          </a:xfrm>
          <a:prstGeom prst="wedgeEllipseCallout">
            <a:avLst>
              <a:gd name="adj1" fmla="val -241837"/>
              <a:gd name="adj2" fmla="val 7397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11640" y="3052080"/>
            <a:ext cx="431640" cy="652680"/>
          </a:xfrm>
          <a:prstGeom prst="wedgeEllipseCallout">
            <a:avLst>
              <a:gd name="adj1" fmla="val 450333"/>
              <a:gd name="adj2" fmla="val 4889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2053440"/>
            <a:ext cx="432000" cy="652680"/>
          </a:xfrm>
          <a:prstGeom prst="wedgeEllipseCallout">
            <a:avLst>
              <a:gd name="adj1" fmla="val 268314"/>
              <a:gd name="adj2" fmla="val 49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95640" y="5860440"/>
            <a:ext cx="432000" cy="652680"/>
          </a:xfrm>
          <a:prstGeom prst="wedgeEllipseCallout">
            <a:avLst>
              <a:gd name="adj1" fmla="val 414277"/>
              <a:gd name="adj2" fmla="val -7480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40360" y="4996800"/>
            <a:ext cx="431640" cy="652680"/>
          </a:xfrm>
          <a:prstGeom prst="wedgeEllipseCallout">
            <a:avLst>
              <a:gd name="adj1" fmla="val 394416"/>
              <a:gd name="adj2" fmla="val 1681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7F52-660C-4729-81BC-EF19646CEC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968720" y="1123920"/>
            <a:ext cx="3203640" cy="49690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37000" y="102960"/>
            <a:ext cx="5356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lowest bit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691920"/>
            <a:ext cx="253548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central lowlands of Scotlan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Cheshire Plai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Fen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East Anglia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Midland Plai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4788000" y="4060080"/>
            <a:ext cx="431640" cy="652680"/>
          </a:xfrm>
          <a:prstGeom prst="wedgeEllipseCallout">
            <a:avLst>
              <a:gd name="adj1" fmla="val 473500"/>
              <a:gd name="adj2" fmla="val 8538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17080" y="4420440"/>
            <a:ext cx="504720" cy="652680"/>
          </a:xfrm>
          <a:prstGeom prst="wedgeEllipseCallout">
            <a:avLst>
              <a:gd name="adj1" fmla="val -171949"/>
              <a:gd name="adj2" fmla="val 2237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812000" y="3556800"/>
            <a:ext cx="432000" cy="652680"/>
          </a:xfrm>
          <a:prstGeom prst="wedgeEllipseCallout">
            <a:avLst>
              <a:gd name="adj1" fmla="val -128597"/>
              <a:gd name="adj2" fmla="val 11824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56000" y="2980440"/>
            <a:ext cx="432000" cy="652680"/>
          </a:xfrm>
          <a:prstGeom prst="wedgeEllipseCallout">
            <a:avLst>
              <a:gd name="adj1" fmla="val 491879"/>
              <a:gd name="adj2" fmla="val 16085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88000" y="2259720"/>
            <a:ext cx="431640" cy="652680"/>
          </a:xfrm>
          <a:prstGeom prst="wedgeEllipseCallout">
            <a:avLst>
              <a:gd name="adj1" fmla="val 288916"/>
              <a:gd name="adj2" fmla="val 5104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A574-E109-48D9-89CB-38A588A713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5:16:02Z</dcterms:created>
  <dc:creator>Lindy</dc:creator>
  <dc:description/>
  <dc:language>en-US</dc:language>
  <cp:lastModifiedBy>Lindy</cp:lastModifiedBy>
  <dcterms:modified xsi:type="dcterms:W3CDTF">2009-02-26T13:29:18Z</dcterms:modified>
  <cp:revision>5</cp:revision>
  <dc:subject/>
  <dc:title>Why are certain farm products produced in particular area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